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BD0-98A2-4499-8CBA-D4E208AA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54D-B47D-413B-966C-E7D2BA2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2F576-1EF6-4FF1-B620-C76D1542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A04A6-CD68-4CE1-99FF-50C8107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891C5-CB71-4CBE-9C9A-F70488C4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7B18D-737B-4A02-9537-819F12C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B6576-4B13-4619-A560-3DBE139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85E97-E7EC-4410-880B-4BBE885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ACC37-86D4-444C-8B28-ED3B6F1D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EFE82-DABB-4C7E-A310-7003DAF1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24076-E80D-4841-99DB-BF516C90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E92C6-55C0-4257-89A9-373810E4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2A8-0B3A-42C3-B714-5922D032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721A2-AFFD-46DB-8632-2F7D3E9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65669-ADA5-4E52-B10B-37D20D9F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08D83-812C-47EB-A6CE-7A1EF78D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41850-778F-4440-A5F6-E65A141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3ED9B-E5D9-4264-A83E-82E27692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D7C34-293C-4109-B516-8DEED02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15826-B5E1-429D-916A-F804A7A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696F3-4A5F-4DAC-BDC2-0ED5335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2CE19-D375-498A-947F-8B890E7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184F6-C015-40F0-BDCF-369CA4DF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544-ABBC-4D2C-9AD9-8D007E6B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E405D-B341-4A30-92B6-B36A149A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2C2C1-8C8A-449B-B038-5D22488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949D1-A83A-4FC1-A997-93AD062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4AB95-5B6B-4380-9FD1-7B11D09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3BA35-10C6-43A3-8CF1-BD01EAA3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18DC8-2787-4E70-9ACF-1146622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968A9-57EB-4E13-9719-C303344D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76DDD-A3F5-45C8-B235-28776E8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5DB88-721C-4FE6-8A57-FBE0A1F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2E477-5ABA-4237-9F2F-6EAE17F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8CC4-B7F7-4EDC-AB2A-83032AE8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0DBBC-7D00-4349-A5F8-5F651FB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1910C-65E6-4A77-9C45-B8D0289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D5FC0-D6F4-4814-AC79-50DE943B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2202F-2559-43C4-99A6-A26AE66F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B45E0-61D9-4109-8D01-6B680794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2F321-3234-4BA2-BB52-A0A6E06F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940E7-55AF-4195-BA69-E5AEE935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010C2-8451-466F-9F2C-288B530F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18D28-5B67-452E-9C85-3F9E3A3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E4257-BDE3-42B1-969A-417859C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E1C3-487C-4784-8147-72625EC5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7C9D5-85A4-4DC0-AECB-8A6DF556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2B007-BF74-44A2-BA45-578E9564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688E0-694D-4999-80DA-B77798EE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3E283-F1A2-4AA9-BCD9-8C62002F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DF9D7-5C9E-4641-A2CC-6EF36361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5C236-EFD8-42C0-AA53-D1D2C36F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5498B-FB92-46C5-AFC8-B4CBB87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C4305-33B4-412F-8EDF-AAD8376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3B396-2ECB-4912-882C-2A35C128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C432C-F6FC-4583-ABF2-963A9FD0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E18D-42EF-4918-9B48-D9474FD8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58955-42C1-4251-8877-45DF468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557A7-0396-4B9C-9AC8-384B80BE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A16EE-73A8-4B29-8EEB-1CF37DC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FA334-8C81-4A8F-AC12-676E4C31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C1392-EE04-4697-9727-EBDFCAEF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B5778-5CAF-4024-8361-283D9FCE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62173-01A6-4D11-960C-3B3E484E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D67BB-42ED-48CA-BA39-FC3B5068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77854-2173-4FFC-AFE2-30AEC10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6BF1A-1E9E-4808-B5B3-F8719539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E718-6CA0-4CE2-B952-F58CDBAD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37A12-D4B4-4B57-AC56-70419291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93AF3-DBBB-43A2-9BC9-2F5BAD7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C56B0-B1A3-4A8F-A3B4-685F104C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46DBC-F5F8-4B3B-97F4-102EA61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3ED5D-FFA6-451D-9375-BCDA59B5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6240A-AF93-48DD-862D-19D33A3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053AB-1961-4D9E-98A7-28272F6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2C1A8-5493-45C5-B9ED-26B8747E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B778F-1993-4250-8E13-101C5475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7095B-ABB4-4F44-936C-7DB4E466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A71-E093-42C0-AC1A-37702423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860CB-758B-4E4E-8314-F059AB35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821C4-9039-4876-A6C4-7F8C27A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5190D-7A7D-489A-828C-57AF55C9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72E76-26D5-42A7-867A-A86349CA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C529F-1C72-4B7C-9800-6E504FC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48C11-A9F1-44BF-80F7-37EF66E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220AD-1F2D-4D9F-945D-81A496C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7839C-67F8-4948-82F8-DEABE201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8AB86-C3A7-4301-83CC-5430CA8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EAED4-D066-444D-A406-834E4D19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5E9C-D4DE-4C4F-B102-F8C17F65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1DD70-167B-4019-A37B-0665870F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2824A-42F1-47D0-AE7D-BCE92A8C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6EDE1-1C9C-4526-AAE3-3874EDC2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B18EF-B74B-4F42-97E0-DE88D67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9CDBC-A294-4C94-B00F-53F41E8E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6DA6F-CF18-4FA6-A3FC-67EA78FF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865E6-603F-41E6-A1A5-AB556296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9F222-CE3F-4D60-B4F8-9F6047A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7D0C9-2605-4164-ADFA-CADBB9FA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56789-F55E-4B8C-8070-90D692C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81A0-25B8-41A6-9F4B-911C30F1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F481F-F47C-4BD4-9914-B617EF1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38E39-FB1C-40D4-984F-811994F3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9268C-A4CC-44D7-88B8-1C7287A6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3CFBA-E156-4C04-8555-2B043F76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776D7-D055-4CAC-A072-F7E3A563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5D425-BCCE-4CE2-96C2-54D0E77A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F2525-79CE-494F-9BB4-191A5FB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C5E3B-6DAE-4FF5-9C83-3D66561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4B6AD-56AC-4D23-A2E9-53495B8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BF379-C7B1-43E8-9F15-57C500D3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66E-8E91-4B91-874B-8F1A880A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172B-B295-42E9-9044-C31146E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49B22-E824-45C4-931A-D3EE833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DBB7A-4363-43C0-9F7D-A711227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9642C-867F-46ED-B340-1287F700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F38DD-649D-4E20-97F7-D90741CC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4CD4F-7E27-4531-9FC1-9BB93798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9AEA6-3486-42AC-BFC3-30FCB8E5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2A801-81D6-4825-BE3D-B23A9393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58A2D-7096-470A-8C32-A3E68665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34244-94AB-4315-A848-D40AC8E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FBF9E8-5B7C-4430-8B63-C2DF3CC9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5453-3263-496E-8865-FF886855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3C69C-216C-403B-B626-D597B535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1FEDF-A839-40B6-B42C-EB849DB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D71CE-7594-4992-8907-90EB0F9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FF800-94A5-437C-B6D8-A54D5CB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CBCAB-EC64-4923-81AA-5B163270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C9671-BBF0-44E6-9157-33D636E6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1A929-6F16-455F-B231-C6A80F99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197DB-32F1-468F-850F-745DCCBD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CA57CD-46C7-45ED-9083-90FF12C2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3B900-6FCF-4070-8C7F-D778BA64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0871-E944-4A14-AB86-5C35E6B2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094072-5760-4A0E-BA44-2377D29A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E171A-4B38-486D-8983-8B1D9E7A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11ACB-01FE-4C83-B424-00EA244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6128E-A599-4236-A34E-6A34B526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01A78-55BF-482F-B087-85B05EE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52634-F921-4697-B626-2C38A4A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1A331-57B0-4BFF-9B31-D8829B5E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13FD3-951F-4B32-8E0A-0341C350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744B6-EB71-4418-9267-C3C53AFE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35C95-91B0-4DC1-9CB2-9675150A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09E0-707D-4959-A914-B3C95E08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CB57E-35C4-4256-9FF6-7B73FCD4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19155-3C30-478B-ADD0-E585D468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086D8-313F-44DE-A7EB-A0176497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85B2D-123D-4A32-9207-FFEF1EAF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11C18-EC92-4FC4-8B7A-6AA961DD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D7530-6E38-4976-BCF6-5055B71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95BFA-8F33-43B1-9DB9-1CEA5EB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F9708-4556-46F1-8327-9ADBD8F6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4EAA7-2785-4508-9BFA-3B332FC9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07E85-9CC4-4B4D-85F5-FE4FEBF0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B131-F6CE-49BD-9001-32A64627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ACCDF-11AC-4C56-9636-3AFAD3B0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D60645-0A58-4F69-90EB-BE5027FF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93CA5-81DA-400C-948E-6B26562F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10EDB3-AC87-454F-94DA-5376ACF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79EF2-722A-4DBA-B2E2-6611BE8E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8412F3-FD21-467E-A060-6345AFB6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5B699-DF9D-4BD6-B2E0-3E7E10F1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EE221-7480-4EFF-8273-0809D313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72626B-643B-4BBB-B274-5526B3E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51A25-21F6-40BC-8DCE-6142F92E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6CF3-6BA4-4AA2-AB1E-5C187F6A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2A447E-372F-474F-8B7B-11DCDAC9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A0CF6-3846-471E-8BF3-12559768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7666B-EB28-4ADE-92F7-6A9C131C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DBF3-6C7E-439F-B135-FA8A16E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F3EB-202B-4189-937C-60FD438F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9972-609D-4F6A-8E53-0F800BC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5726-608B-4A1B-92AC-FDD84FE1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441-85E6-4FF6-840A-3A6518D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2513-30A1-435B-B112-AFD67FB0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A43A-AB33-4EA2-A829-0E79FEA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3815-B55B-430E-B60F-ADB9707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EE86-A0DA-43C8-A34E-89E7AF9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85F7-B075-481F-B223-9FD2A63A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E60A-C918-4ED3-9EB9-42E1F8F6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8824-222D-4F79-8283-541B119E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27A7D-A71E-4227-A623-4C245C7F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DC99F-44C7-4BF0-95EB-BC68843C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58A8-AB1C-46AE-9B6F-CC0B2A02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9A4-D93C-46CA-AB7D-38DB3165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608EA-6900-4BAF-B740-01B7A399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0FC9-201D-4468-A2E7-9C476482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DADA-8F60-45C4-870E-BD9B714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8C114-7E3F-4248-85C3-F85D138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F557-6651-4508-A10E-468BDCD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DA6D-7C06-4EDE-BB41-9560B47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EA49-D18D-44EE-A143-598BC8A7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D317-8EFC-4DE2-A218-9847467C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67B6-4A52-444C-90E7-76E4B2AA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CBFA-A977-427E-B4D3-9DFD60E3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FF0-6397-4EDF-B231-B86D51D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FA8B-AD50-446B-B61E-E6AF316F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1EEF-BE2F-4D41-9FE1-1FED573B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45F9-6D9D-492A-9EC8-F498010F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08602-FDE0-492E-993B-DA3966ED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ACD6-22AC-4B99-BAFD-570EA26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B339-954C-4847-B4EE-BE5B6AB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792F-E11D-4BBC-B9CC-A140FF9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BF115-42D3-4B76-87AD-167B740A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7B5A-569A-4975-A382-25204557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6EB47-BE5C-47D4-A273-2A1BD096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B12-410A-4336-B4D6-DF19DBE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F9529-9004-410A-B217-C7EC94FB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32F62-9C68-4A27-8B46-7EE93A30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3137D-0986-483F-8151-21E81404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D3A5-14A5-4AFC-85E1-EB492E4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A70C-981A-46E5-BF1C-95BC6FDE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F5FDE-6AD5-408D-AE2C-24C5207D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EF599-1DC8-492F-8B8D-BB1748BF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FCD10-EF11-4A36-A397-C3F916E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EA98-F090-47BA-ACAD-9EE3899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0DE6-DB85-4839-BE4A-3707C334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E21-96DA-44A7-B20D-58FA4C1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174DF-B597-414B-9F42-BCB3D3A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785CF-A603-44BA-A62F-C5F64786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99C82-CD69-4FC4-B6E0-82D4CB43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4ED1-B17D-454F-A2A1-32D305D8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6E910-58B2-404E-B0A4-DDF92394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9178-DC5B-47E1-A98A-EB4E439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06732-34DB-4544-B29E-12724A3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5460-7A7F-4894-8A5D-F95FF6C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C086F-64D4-4DE7-9E96-131ADDD8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D76D2-DF73-4856-A1ED-D05A9C39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68A-42FA-4DA6-B1D7-3EBAA6A6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31E0C-D319-4F30-B6E2-25CE225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01645-599E-477E-A10D-B5B7324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BC21-9BBB-4213-B380-6E7A9D16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F2FB-C8B3-447B-85A9-814A8844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D3E54-6DAA-4443-91E9-040E88DF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9F98-53BC-46DE-A098-F039CB6F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3FAF6-479B-4B59-A6E1-4E5C53D8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AF074-9F22-42D3-AF99-7FA75E30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6AE87-4791-48F1-9290-D2EDA2B7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4596-0E39-4812-8BF6-CE6BE658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C1D-1048-4946-9089-0B9CAD7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EB871-D6B3-453C-993A-F6036AD1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54A4E-005F-4566-AE0A-FB71067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F465-AFBA-4363-9067-67178004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3091D-8BB3-4976-BB60-ED9BB1A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9047-9999-4086-9666-0A1CDF59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C24F1-6303-4F9B-9F8F-A4489A4B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EFD54-2623-4E41-9A03-16304794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C17D3-6359-40D2-BB69-A9EF0E20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DC3E2-44F0-415A-A681-1A92796A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8ACFD-1976-4FFD-82C1-6386F616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CE5A-7361-430D-9958-6B3F97F69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C0CC-5D66-48C2-B963-E7625E8CC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C6C-652E-4CC9-87F2-FBE6B70C3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87A-C1A1-4C97-9E1A-903CBE5AA8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95DA-F4B2-4083-8738-E97E1328C6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7568-4644-4C85-9F4C-6AC22CA3E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D3E-AE40-43F4-95DF-1F10CD5A58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8B1-7608-4D8E-AEE5-53A26E5C86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FF6C-3083-469F-B383-7DA4F7910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6840" y="305280"/>
            <a:ext cx="1312560" cy="1675440"/>
            <a:chOff x="6840" y="305280"/>
            <a:chExt cx="1312560" cy="167544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5440" y="135576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58480" y="391680"/>
              <a:ext cx="72864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0640" y="32292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4680" y="842760"/>
              <a:ext cx="40032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4040" y="149004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3367-CEF8-4D90-9994-95EB6C5A7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F1AE-8CF6-490C-A1DA-9F0A519D8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5440"/>
            <a:ext cx="1127520" cy="1044000"/>
            <a:chOff x="8055360" y="5725440"/>
            <a:chExt cx="1127520" cy="104400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040" y="5725440"/>
              <a:ext cx="597960" cy="968040"/>
              <a:chOff x="8456040" y="5725440"/>
              <a:chExt cx="59796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3920" y="632916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7120"/>
                <a:ext cx="54432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680" y="576576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720" y="6070680"/>
                <a:ext cx="29916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0680"/>
                <a:ext cx="32256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4040"/>
              <a:ext cx="1127520" cy="905400"/>
              <a:chOff x="8055360" y="586404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4840" y="5953320"/>
                <a:ext cx="544680" cy="7261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56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EEC8-B339-4A84-B446-B4592E6B64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9A52-0851-4E6D-8653-24D660D384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036-6E29-4A4F-B134-A737440BF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B1B-0785-4A83-8614-31FE2AE96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120" y="5384520"/>
            <a:ext cx="997920" cy="1126800"/>
            <a:chOff x="18612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3680" y="5384520"/>
              <a:ext cx="616320" cy="1043640"/>
              <a:chOff x="283680" y="5384520"/>
              <a:chExt cx="616320" cy="104364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1080" y="604548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9320" y="5536800"/>
                <a:ext cx="54504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1560" y="5435280"/>
                <a:ext cx="221760" cy="1706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760" y="5771160"/>
                <a:ext cx="29952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480" y="6157800"/>
                <a:ext cx="32328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120" y="5572440"/>
              <a:ext cx="997920" cy="938880"/>
              <a:chOff x="186120" y="5572440"/>
              <a:chExt cx="997920" cy="93888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2320" y="5643000"/>
                <a:ext cx="544680" cy="72720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520" y="622008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2000" y="6239520"/>
                <a:ext cx="17460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328B-7CCB-4E0F-9C27-F242811C8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65FC-C0CB-4B36-AAA8-FE4AA02C0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1A3-C62A-4C1C-941E-58DE4B4DA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529B-0446-4331-BDCE-B9BFBCE602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E302-E8FC-4B24-BFD2-FA516655FD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804-8F10-4301-9CD6-32C1E29A5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A467-BDE9-4202-AA39-1F3432FA86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AB99-D9B4-4A89-8E50-67CDBC996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BB77-1568-4958-B912-BB9B0D4B1B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35F8-1399-406F-874E-D32492A0F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4680"/>
            <a:ext cx="2348280" cy="2297160"/>
            <a:chOff x="7144920" y="441468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2880" y="4414680"/>
              <a:ext cx="1362960" cy="2297160"/>
              <a:chOff x="7652880" y="441468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440" y="587124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040" y="475200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040" y="452736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160" y="526716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240" y="611820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231D-F6E8-4611-9696-9E2D7B0018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FEE8-8E44-4B19-9BCF-8112C706D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E88B-A6C0-4F6E-9265-920DB391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18FF-868E-4555-BEF6-77FFEFF2D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7BED-8008-40DF-8ACC-3F42F5D5C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64FD-3FC2-40D5-8C85-5873DEC96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5767-08D4-4B52-8A26-9E68528F65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6795-3E99-4394-989D-AF7588DB4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975-2D9F-4C53-BBB5-270109D666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B771-FA54-498C-8C84-D889A81BDB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7BE6-A667-47F3-B0BE-16DBFBE1E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4542-58DA-4F56-A2D9-DD1EBE276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8479-932A-4BE2-B913-6F28913DD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9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3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文本框 25" descr=""/>
          <p:cNvPicPr/>
          <p:nvPr/>
        </p:nvPicPr>
        <p:blipFill>
          <a:blip r:embed="rId2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47" descr=""/>
          <p:cNvPicPr/>
          <p:nvPr/>
        </p:nvPicPr>
        <p:blipFill>
          <a:blip r:embed="rId3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9" descr=""/>
          <p:cNvPicPr/>
          <p:nvPr/>
        </p:nvPicPr>
        <p:blipFill>
          <a:blip r:embed="rId4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51" descr=""/>
          <p:cNvPicPr/>
          <p:nvPr/>
        </p:nvPicPr>
        <p:blipFill>
          <a:blip r:embed="rId5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2" name="组合 5" descr=""/>
          <p:cNvPicPr/>
          <p:nvPr/>
        </p:nvPicPr>
        <p:blipFill>
          <a:blip r:embed="rId6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D974-2DCD-48C5-92A5-4FD49D6FD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AA18-94DD-4EAD-AA66-D540237A7F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81000" y="2957400"/>
            <a:ext cx="89820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6321" descr=""/>
          <p:cNvPicPr/>
          <p:nvPr/>
        </p:nvPicPr>
        <p:blipFill>
          <a:blip r:embed="rId1"/>
          <a:stretch/>
        </p:blipFill>
        <p:spPr>
          <a:xfrm>
            <a:off x="500040" y="1008000"/>
            <a:ext cx="8077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5297" descr=""/>
          <p:cNvPicPr/>
          <p:nvPr/>
        </p:nvPicPr>
        <p:blipFill>
          <a:blip r:embed="rId1"/>
          <a:stretch/>
        </p:blipFill>
        <p:spPr>
          <a:xfrm>
            <a:off x="357120" y="361800"/>
            <a:ext cx="8172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4273" descr=""/>
          <p:cNvPicPr/>
          <p:nvPr/>
        </p:nvPicPr>
        <p:blipFill>
          <a:blip r:embed="rId1"/>
          <a:stretch/>
        </p:blipFill>
        <p:spPr>
          <a:xfrm>
            <a:off x="554040" y="839880"/>
            <a:ext cx="8001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3249" descr=""/>
          <p:cNvPicPr/>
          <p:nvPr/>
        </p:nvPicPr>
        <p:blipFill>
          <a:blip r:embed="rId1"/>
          <a:stretch/>
        </p:blipFill>
        <p:spPr>
          <a:xfrm>
            <a:off x="474840" y="1158840"/>
            <a:ext cx="8038800" cy="142884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3250" descr=""/>
          <p:cNvPicPr/>
          <p:nvPr/>
        </p:nvPicPr>
        <p:blipFill>
          <a:blip r:embed="rId2"/>
          <a:stretch/>
        </p:blipFill>
        <p:spPr>
          <a:xfrm>
            <a:off x="318960" y="2630520"/>
            <a:ext cx="8143920" cy="3990960"/>
          </a:xfrm>
          <a:prstGeom prst="rect">
            <a:avLst/>
          </a:prstGeom>
          <a:ln w="0">
            <a:noFill/>
          </a:ln>
        </p:spPr>
      </p:pic>
      <p:sp>
        <p:nvSpPr>
          <p:cNvPr id="1053" name="矩形 53251"/>
          <p:cNvSpPr/>
          <p:nvPr/>
        </p:nvSpPr>
        <p:spPr>
          <a:xfrm>
            <a:off x="1168560" y="4579920"/>
            <a:ext cx="72594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3252"/>
          <p:cNvSpPr/>
          <p:nvPr/>
        </p:nvSpPr>
        <p:spPr>
          <a:xfrm>
            <a:off x="858960" y="5091120"/>
            <a:ext cx="7586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3253"/>
          <p:cNvSpPr/>
          <p:nvPr/>
        </p:nvSpPr>
        <p:spPr>
          <a:xfrm>
            <a:off x="816120" y="5586480"/>
            <a:ext cx="7586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3254"/>
          <p:cNvSpPr/>
          <p:nvPr/>
        </p:nvSpPr>
        <p:spPr>
          <a:xfrm>
            <a:off x="866880" y="6081840"/>
            <a:ext cx="4473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52225" descr=""/>
          <p:cNvPicPr/>
          <p:nvPr/>
        </p:nvPicPr>
        <p:blipFill>
          <a:blip r:embed="rId1"/>
          <a:stretch/>
        </p:blipFill>
        <p:spPr>
          <a:xfrm>
            <a:off x="320760" y="1063800"/>
            <a:ext cx="8124840" cy="3057480"/>
          </a:xfrm>
          <a:prstGeom prst="rect">
            <a:avLst/>
          </a:prstGeom>
          <a:ln w="0">
            <a:noFill/>
          </a:ln>
        </p:spPr>
      </p:pic>
      <p:sp>
        <p:nvSpPr>
          <p:cNvPr id="1058" name="矩形 52226"/>
          <p:cNvSpPr/>
          <p:nvPr/>
        </p:nvSpPr>
        <p:spPr>
          <a:xfrm>
            <a:off x="1035000" y="2616120"/>
            <a:ext cx="73947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2227"/>
          <p:cNvSpPr/>
          <p:nvPr/>
        </p:nvSpPr>
        <p:spPr>
          <a:xfrm>
            <a:off x="782640" y="3110040"/>
            <a:ext cx="75531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2228"/>
          <p:cNvSpPr/>
          <p:nvPr/>
        </p:nvSpPr>
        <p:spPr>
          <a:xfrm>
            <a:off x="741240" y="3605040"/>
            <a:ext cx="3073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51201" descr=""/>
          <p:cNvPicPr/>
          <p:nvPr/>
        </p:nvPicPr>
        <p:blipFill>
          <a:blip r:embed="rId1"/>
          <a:stretch/>
        </p:blipFill>
        <p:spPr>
          <a:xfrm>
            <a:off x="216000" y="92556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1062" name="矩形 51202"/>
          <p:cNvSpPr/>
          <p:nvPr/>
        </p:nvSpPr>
        <p:spPr>
          <a:xfrm>
            <a:off x="950760" y="3900600"/>
            <a:ext cx="72853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1203"/>
          <p:cNvSpPr/>
          <p:nvPr/>
        </p:nvSpPr>
        <p:spPr>
          <a:xfrm>
            <a:off x="700200" y="4387680"/>
            <a:ext cx="75200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1204"/>
          <p:cNvSpPr/>
          <p:nvPr/>
        </p:nvSpPr>
        <p:spPr>
          <a:xfrm>
            <a:off x="692280" y="4898880"/>
            <a:ext cx="7519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51205"/>
          <p:cNvSpPr/>
          <p:nvPr/>
        </p:nvSpPr>
        <p:spPr>
          <a:xfrm>
            <a:off x="733320" y="5394240"/>
            <a:ext cx="75200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1206"/>
          <p:cNvSpPr/>
          <p:nvPr/>
        </p:nvSpPr>
        <p:spPr>
          <a:xfrm>
            <a:off x="590400" y="5897520"/>
            <a:ext cx="75200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50177" descr=""/>
          <p:cNvPicPr/>
          <p:nvPr/>
        </p:nvPicPr>
        <p:blipFill>
          <a:blip r:embed="rId1"/>
          <a:stretch/>
        </p:blipFill>
        <p:spPr>
          <a:xfrm>
            <a:off x="334800" y="9255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73729" descr=""/>
          <p:cNvPicPr/>
          <p:nvPr/>
        </p:nvPicPr>
        <p:blipFill>
          <a:blip r:embed="rId1"/>
          <a:stretch/>
        </p:blipFill>
        <p:spPr>
          <a:xfrm>
            <a:off x="755640" y="812880"/>
            <a:ext cx="7648560" cy="6019560"/>
          </a:xfrm>
          <a:prstGeom prst="rect">
            <a:avLst/>
          </a:prstGeom>
          <a:ln w="0">
            <a:noFill/>
          </a:ln>
        </p:spPr>
      </p:pic>
      <p:sp>
        <p:nvSpPr>
          <p:cNvPr id="1069" name="矩形 73730"/>
          <p:cNvSpPr/>
          <p:nvPr/>
        </p:nvSpPr>
        <p:spPr>
          <a:xfrm>
            <a:off x="1252440" y="3724200"/>
            <a:ext cx="70088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73731"/>
          <p:cNvSpPr/>
          <p:nvPr/>
        </p:nvSpPr>
        <p:spPr>
          <a:xfrm>
            <a:off x="950760" y="423540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3732"/>
          <p:cNvSpPr/>
          <p:nvPr/>
        </p:nvSpPr>
        <p:spPr>
          <a:xfrm>
            <a:off x="907920" y="473076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73733"/>
          <p:cNvSpPr/>
          <p:nvPr/>
        </p:nvSpPr>
        <p:spPr>
          <a:xfrm>
            <a:off x="917640" y="526716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73734"/>
          <p:cNvSpPr/>
          <p:nvPr/>
        </p:nvSpPr>
        <p:spPr>
          <a:xfrm>
            <a:off x="882720" y="574524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73735"/>
          <p:cNvSpPr/>
          <p:nvPr/>
        </p:nvSpPr>
        <p:spPr>
          <a:xfrm>
            <a:off x="874800" y="627372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086680" cy="58388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6580080" y="18208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153280" cy="2867040"/>
          </a:xfrm>
          <a:prstGeom prst="rect">
            <a:avLst/>
          </a:prstGeom>
          <a:ln w="0">
            <a:noFill/>
          </a:ln>
        </p:spPr>
      </p:pic>
      <p:sp>
        <p:nvSpPr>
          <p:cNvPr id="1026" name="矩形 63490"/>
          <p:cNvSpPr/>
          <p:nvPr/>
        </p:nvSpPr>
        <p:spPr>
          <a:xfrm>
            <a:off x="5303880" y="9302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62465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077320" cy="4915080"/>
          </a:xfrm>
          <a:prstGeom prst="rect">
            <a:avLst/>
          </a:prstGeom>
          <a:ln w="0">
            <a:noFill/>
          </a:ln>
        </p:spPr>
      </p:pic>
      <p:sp>
        <p:nvSpPr>
          <p:cNvPr id="1028" name="矩形 62466"/>
          <p:cNvSpPr/>
          <p:nvPr/>
        </p:nvSpPr>
        <p:spPr>
          <a:xfrm>
            <a:off x="1847880" y="1467000"/>
            <a:ext cx="431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61441" descr=""/>
          <p:cNvPicPr/>
          <p:nvPr/>
        </p:nvPicPr>
        <p:blipFill>
          <a:blip r:embed="rId1"/>
          <a:stretch/>
        </p:blipFill>
        <p:spPr>
          <a:xfrm>
            <a:off x="322200" y="1011240"/>
            <a:ext cx="8105760" cy="19810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61442" descr=""/>
          <p:cNvPicPr/>
          <p:nvPr/>
        </p:nvPicPr>
        <p:blipFill>
          <a:blip r:embed="rId2"/>
          <a:stretch/>
        </p:blipFill>
        <p:spPr>
          <a:xfrm>
            <a:off x="353880" y="3035160"/>
            <a:ext cx="7972560" cy="3419640"/>
          </a:xfrm>
          <a:prstGeom prst="rect">
            <a:avLst/>
          </a:prstGeom>
          <a:ln w="0">
            <a:noFill/>
          </a:ln>
        </p:spPr>
      </p:pic>
      <p:sp>
        <p:nvSpPr>
          <p:cNvPr id="1031" name="矩形 61443"/>
          <p:cNvSpPr/>
          <p:nvPr/>
        </p:nvSpPr>
        <p:spPr>
          <a:xfrm>
            <a:off x="5614920" y="100656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60417" descr=""/>
          <p:cNvPicPr/>
          <p:nvPr/>
        </p:nvPicPr>
        <p:blipFill>
          <a:blip r:embed="rId1"/>
          <a:stretch/>
        </p:blipFill>
        <p:spPr>
          <a:xfrm>
            <a:off x="295200" y="876240"/>
            <a:ext cx="8077320" cy="35337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60418"/>
          <p:cNvSpPr/>
          <p:nvPr/>
        </p:nvSpPr>
        <p:spPr>
          <a:xfrm>
            <a:off x="6662880" y="85572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9393" descr=""/>
          <p:cNvPicPr/>
          <p:nvPr/>
        </p:nvPicPr>
        <p:blipFill>
          <a:blip r:embed="rId1"/>
          <a:stretch/>
        </p:blipFill>
        <p:spPr>
          <a:xfrm>
            <a:off x="298440" y="900000"/>
            <a:ext cx="8172360" cy="5658120"/>
          </a:xfrm>
          <a:prstGeom prst="rect">
            <a:avLst/>
          </a:prstGeom>
          <a:ln w="0">
            <a:noFill/>
          </a:ln>
        </p:spPr>
      </p:pic>
      <p:sp>
        <p:nvSpPr>
          <p:cNvPr id="1035" name="矩形 59394"/>
          <p:cNvSpPr/>
          <p:nvPr/>
        </p:nvSpPr>
        <p:spPr>
          <a:xfrm>
            <a:off x="1101600" y="3941640"/>
            <a:ext cx="7243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9395"/>
          <p:cNvSpPr/>
          <p:nvPr/>
        </p:nvSpPr>
        <p:spPr>
          <a:xfrm>
            <a:off x="857160" y="4470480"/>
            <a:ext cx="7243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9396"/>
          <p:cNvSpPr/>
          <p:nvPr/>
        </p:nvSpPr>
        <p:spPr>
          <a:xfrm>
            <a:off x="1117440" y="4991040"/>
            <a:ext cx="7243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59397"/>
          <p:cNvSpPr/>
          <p:nvPr/>
        </p:nvSpPr>
        <p:spPr>
          <a:xfrm>
            <a:off x="841320" y="5484960"/>
            <a:ext cx="75121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9398"/>
          <p:cNvSpPr/>
          <p:nvPr/>
        </p:nvSpPr>
        <p:spPr>
          <a:xfrm>
            <a:off x="798480" y="5996160"/>
            <a:ext cx="75121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8369" descr=""/>
          <p:cNvPicPr/>
          <p:nvPr/>
        </p:nvPicPr>
        <p:blipFill>
          <a:blip r:embed="rId1"/>
          <a:stretch/>
        </p:blipFill>
        <p:spPr>
          <a:xfrm>
            <a:off x="630360" y="988920"/>
            <a:ext cx="7829280" cy="31719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58370"/>
          <p:cNvSpPr/>
          <p:nvPr/>
        </p:nvSpPr>
        <p:spPr>
          <a:xfrm>
            <a:off x="1109520" y="973080"/>
            <a:ext cx="7336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8371"/>
          <p:cNvSpPr/>
          <p:nvPr/>
        </p:nvSpPr>
        <p:spPr>
          <a:xfrm>
            <a:off x="790560" y="1476360"/>
            <a:ext cx="7335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8372"/>
          <p:cNvSpPr/>
          <p:nvPr/>
        </p:nvSpPr>
        <p:spPr>
          <a:xfrm>
            <a:off x="1050840" y="1996920"/>
            <a:ext cx="7336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8373"/>
          <p:cNvSpPr/>
          <p:nvPr/>
        </p:nvSpPr>
        <p:spPr>
          <a:xfrm>
            <a:off x="841320" y="2500200"/>
            <a:ext cx="7537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8374"/>
          <p:cNvSpPr/>
          <p:nvPr/>
        </p:nvSpPr>
        <p:spPr>
          <a:xfrm>
            <a:off x="766800" y="3029040"/>
            <a:ext cx="75373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8375"/>
          <p:cNvSpPr/>
          <p:nvPr/>
        </p:nvSpPr>
        <p:spPr>
          <a:xfrm>
            <a:off x="892080" y="353052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7345" descr=""/>
          <p:cNvPicPr/>
          <p:nvPr/>
        </p:nvPicPr>
        <p:blipFill>
          <a:blip r:embed="rId1"/>
          <a:stretch/>
        </p:blipFill>
        <p:spPr>
          <a:xfrm>
            <a:off x="360360" y="938160"/>
            <a:ext cx="8115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5T02:52:09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